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02838"/>
        <c:axId val="60241936"/>
      </c:barChart>
      <c:catAx>
        <c:axId val="45402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41936"/>
        <c:crosses val="autoZero"/>
        <c:auto val="1"/>
        <c:lblAlgn val="ctr"/>
        <c:lblOffset val="100"/>
        <c:noMultiLvlLbl val="0"/>
      </c:catAx>
      <c:valAx>
        <c:axId val="60241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02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C46-86AB-4CF8-8BE1-B3783647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7A9-C5D4-4F0F-8E0C-C6FC5112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CF9-F596-429F-AEA0-4BFBD5DE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2F5-67B3-4748-9490-D2F2A22A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44E-E83F-4297-96B0-93388761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8F6-3D86-4542-8C30-AABE64C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8FB-20CD-445A-96B8-6B887E21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A66-B0F9-4996-8DC2-A775CE8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FA1-F554-4E45-A628-25214B28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DB9-E58E-4567-840D-1F130B78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7EF-BF7E-4E41-B553-1742338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5ED-7EC3-4E5F-91B7-1948499B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5F0BD-31E0-41FF-A28E-F882930A78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