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64116"/>
        <c:axId val="64866462"/>
      </c:barChart>
      <c:catAx>
        <c:axId val="429641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66462"/>
        <c:crosses val="autoZero"/>
        <c:auto val="1"/>
        <c:lblAlgn val="ctr"/>
        <c:lblOffset val="100"/>
        <c:noMultiLvlLbl val="0"/>
      </c:catAx>
      <c:valAx>
        <c:axId val="64866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641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EB2-4A13-492C-8C42-3EC908F5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18D4-AA81-47B8-921C-2C5AF69D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971-040B-4F61-AB18-B78B16AC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0BB-1D82-4B5F-9777-CD49C9ED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C54F-368A-4EF8-8ACB-2BC0C806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5EA-9BE9-4DFC-A38A-1E2DA019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F69-DB91-42BE-BD4C-F3193386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55D-67AB-49E5-B667-8CEFDB1A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72F-92CB-45EB-AD47-E7E1A114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D37-88B4-459E-9DD8-3D79B65B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6AE2-C113-49FF-8C89-BB559809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DA3-249F-477B-B2C8-C6DE91AD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D39E0-C1C3-4EA0-9E14-FFDC1A173F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